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92900" cy="9967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BF0-2A53-4860-8BA0-976CE89E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781-7503-4F97-9556-BE31CC88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13B-3664-45D5-912D-B8643DEA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F8C-66CA-4423-808B-79056001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7B4-FFA7-4A5F-A36D-C47DF416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918-5A62-41A4-A798-4D6E09D5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123-7A75-4088-B2D0-4A59B7EA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2864-D965-41F1-A705-C0FD8E42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EAD-2C6E-41FB-A511-DFF89105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0D0-881E-4FE1-A747-EC2932B0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F2B-BE5B-429E-8A00-E08AF7B6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2DB-7167-48DC-830A-F5108372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1277-03C3-4D7B-8A1A-FE6C02667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879640" cy="431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987640" y="3933720"/>
            <a:ext cx="4321080" cy="2881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48240" y="692280"/>
            <a:ext cx="2573640" cy="3860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1008000" cy="996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08320" y="138240"/>
            <a:ext cx="452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Peugeot Speedfight 30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2007 Fa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90360" y="138096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 på l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5465880"/>
            <a:ext cx="249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Sort/blå – NK/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Vejl. udsalg kr.15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9440" y="5734080"/>
            <a:ext cx="249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Sort/grå – NK/A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Vejl. udsalg kr.15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1800" y="2276640"/>
            <a:ext cx="249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Sort/Orange – NK/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Vejl. udsalg kr.15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1880" y="6553080"/>
            <a:ext cx="374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rial"/>
              </a:rPr>
              <a:t>NB: Wavedisc og bagspoiler er ikke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2:13:20Z</dcterms:created>
  <dc:creator>Robert Hansen</dc:creator>
  <dc:description/>
  <dc:language>en-US</dc:language>
  <cp:lastModifiedBy>Lars Andresen- Salg</cp:lastModifiedBy>
  <dcterms:modified xsi:type="dcterms:W3CDTF">2007-04-10T12:50:54Z</dcterms:modified>
  <cp:revision>2</cp:revision>
  <dc:subject/>
  <dc:title>Dias nummer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6241413</vt:r8>
  </property>
  <property fmtid="{D5CDD505-2E9C-101B-9397-08002B2CF9AE}" pid="3" name="_AuthorEmail">
    <vt:lpwstr>hrh@pmdanmark.dk</vt:lpwstr>
  </property>
  <property fmtid="{D5CDD505-2E9C-101B-9397-08002B2CF9AE}" pid="4" name="_AuthorEmailDisplayName">
    <vt:lpwstr>Robert Hansen</vt:lpwstr>
  </property>
  <property fmtid="{D5CDD505-2E9C-101B-9397-08002B2CF9AE}" pid="5" name="_EmailSubject">
    <vt:lpwstr>Speedfight 2007 farver.ppt</vt:lpwstr>
  </property>
  <property fmtid="{D5CDD505-2E9C-101B-9397-08002B2CF9AE}" pid="6" name="_ReviewingToolsShownOnce">
    <vt:lpwstr/>
  </property>
</Properties>
</file>